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FB0-3C1B-4C54-B5EE-22DD64A2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462-9C52-4CD1-B38F-BEEA5C17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99CC-63AB-4ED9-92CD-DC1E0E95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9D9F-7E08-4060-BFC5-94F9E710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2CFF-E1EC-45C1-82E7-898EC571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DD8B-F192-4E92-B777-2B2EB371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02F8-E221-425D-A673-1D013833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AAE-E575-4F93-A27C-DAF36265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CEA-ECE3-4E64-874E-23D06E38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570-2A54-47B5-A47D-09C5BA39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F43-FBA5-4E78-87E4-6124CB6B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839-BD6F-4F28-AD1E-310EE7F8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E71C-A21C-4C4D-BA79-82B8F71F7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             Clase 801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6 de septiembre del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72224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5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repasamos para la Prueba: Repaso 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as many Spanish words as you can think of associated wit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960" y="7318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 el adjet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333360" y="1523880"/>
            <a:ext cx="164772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171612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4343400" y="1447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4"/>
          <a:stretch/>
        </p:blipFill>
        <p:spPr>
          <a:xfrm>
            <a:off x="6705720" y="1447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5"/>
          <a:stretch/>
        </p:blipFill>
        <p:spPr>
          <a:xfrm>
            <a:off x="380880" y="4446720"/>
            <a:ext cx="1524240" cy="1496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6"/>
          <a:stretch/>
        </p:blipFill>
        <p:spPr>
          <a:xfrm>
            <a:off x="2378160" y="4267080"/>
            <a:ext cx="135576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7"/>
          <a:stretch/>
        </p:blipFill>
        <p:spPr>
          <a:xfrm>
            <a:off x="4390920" y="4419720"/>
            <a:ext cx="1857600" cy="169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8"/>
          <a:stretch/>
        </p:blipFill>
        <p:spPr>
          <a:xfrm>
            <a:off x="6819840" y="4343400"/>
            <a:ext cx="17622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906768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II-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a con una palabra apropi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escuela secundaria en México es un 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osa saca buenas notas y estudia mucho. Ella es 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o saca una F en ciencia. Él es un estudiante muy 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III-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e with the appropriate words and en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 alumn___ es una buen___ ami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 ______ curso de educación física es bastante fácil pero ______ cursos de historia y ciencia son difícil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 ______ alumnos en mi clase de matemáticas son muy inteligent____ y cómic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320" y="15192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IV-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oose the correct compl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________ muy se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é que nacionalidad _______ el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_______ amigos, ¿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 una buena ami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________ tú un buen estudi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392120" y="1655640"/>
            <a:ext cx="54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s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397520" y="2697120"/>
            <a:ext cx="46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447920" y="3886200"/>
            <a:ext cx="54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e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s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447920" y="4906800"/>
            <a:ext cx="50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473480" y="6095880"/>
            <a:ext cx="46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e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V-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swer in full Spanish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 ¿De dónde e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 ¿De qué nacionalidad e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¿Dónde eres alumn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. ¿Es grande o pequeña tu escue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6. ¿Cómo es la clase de españ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7. ¿Son ustedes buenos o malos alumn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Repaso Gramatical: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erbos -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2203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verb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es una palabra de a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spañol, los verbos terminan en –AR,--ER o –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(In Spanish, all verbs end in –AR, -ER, or –I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conjugar los verbos –AR en el presente, remplazamos la terminación de la siguiente mane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(to conjugate –AR verbs in the present, replace ending 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follows)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ff"/>
                </a:solidFill>
                <a:latin typeface="Arial"/>
              </a:rPr>
              <a:t>-A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Yo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ú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Él Ella Ud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sotros-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los Ellas Uds.  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90% of all Spanish Verbs end in –AR!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9"/>
          <p:cNvSpPr/>
          <p:nvPr/>
        </p:nvSpPr>
        <p:spPr>
          <a:xfrm>
            <a:off x="3696120" y="373392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9"/>
          <p:cNvSpPr/>
          <p:nvPr/>
        </p:nvSpPr>
        <p:spPr>
          <a:xfrm>
            <a:off x="3711240" y="41148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3694320" y="45673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9"/>
          <p:cNvSpPr/>
          <p:nvPr/>
        </p:nvSpPr>
        <p:spPr>
          <a:xfrm>
            <a:off x="3735720" y="494820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9"/>
          <p:cNvSpPr/>
          <p:nvPr/>
        </p:nvSpPr>
        <p:spPr>
          <a:xfrm>
            <a:off x="3704760" y="548172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CONVERSACION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 la tienda de 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OR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IZ REPASO A on THURS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: 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ula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5:11:16Z</dcterms:created>
  <dc:creator>Helen Zumaeta</dc:creator>
  <dc:description/>
  <dc:language>en-US</dc:language>
  <cp:lastModifiedBy>Helen Zumaeta</cp:lastModifiedBy>
  <cp:lastPrinted>2014-09-16T12:36:55Z</cp:lastPrinted>
  <dcterms:modified xsi:type="dcterms:W3CDTF">2014-09-16T16:57:12Z</dcterms:modified>
  <cp:revision>17</cp:revision>
  <dc:subject/>
  <dc:title>Me llamo __________ Clase 6 nh/im La fecha es el 5 de enero del 2011</dc:title>
</cp:coreProperties>
</file>